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7823-E1A0-4F59-8DF8-4A62CD329B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F1B4-DF07-4DD8-93B1-1B8A5DDBE7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6AD4-A0DC-4E01-A44D-D644FD7B3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1BBD-0A96-4846-8C00-9D79612ECF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30CE-432F-48EA-9A34-8297C03336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074B-6492-4698-8217-80F8804AE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F980-BCC3-4A1B-83E1-095E1A2F4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1BD2-A8E7-4415-ADF0-DCE4C14D0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DA25-4B80-4854-A5BE-9AC3B0F08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C6C9-E95D-4AE6-8CEA-7F0EA3FC9C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085C-2591-4333-83F2-FE11821B7B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B018-E738-4F3F-B766-864D2DBC3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9A4D-A8C7-49AD-97E8-6F9CE85721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5B5C-CAC0-4353-B200-78C031BE79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79A2-2AE2-4621-926E-9C9B046A74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742C-6467-4BCE-994C-2C28B35334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9438-1613-4284-BCE9-BAE1495E0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DB6E-D4CE-4E4D-AADA-128AEB3EC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E76B-7ADD-491C-ABA8-12C90919DC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A2CA-26EA-42C5-AE84-01C90D45C3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2462-F895-4B9A-ADDB-7E484070B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558C-07D9-486C-940C-783D5567E0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5AC7-F851-488B-8E17-C600F883A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BC5-F6E4-4B0E-8720-D4197203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A35-D492-4E1A-89ED-3A752784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0A0-CE29-4153-8AF5-0C2513CA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115-0980-4A27-A527-0DAB53C5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406-0085-435B-B2F3-2E1039A3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1CF-DD72-4385-AEB3-A98745F4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48A-B5D1-4D2A-B44E-9F96FD24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358-C64C-481F-8DE5-42785246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EE6-4736-4A6D-ABD0-90837A32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C86-2494-499A-8965-D4CD16B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E1F-79C6-4428-B04F-625BE35C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243-E6E7-4E52-9EC3-186BB373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6E10-243E-4B61-8AD0-95235DBBF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Neil Jones\My Documents\My Pictures\antonio.jpg"/>
          <p:cNvPicPr/>
          <p:nvPr/>
        </p:nvPicPr>
        <p:blipFill>
          <a:blip r:embed="rId1"/>
          <a:stretch/>
        </p:blipFill>
        <p:spPr>
          <a:xfrm>
            <a:off x="-380880" y="0"/>
            <a:ext cx="10515600" cy="6973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4602240" y="4724280"/>
            <a:ext cx="3833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e chico se llama Anto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¿Dónde v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¿Cuántos años tie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29040" y="20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o chan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929040" y="571500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929040" y="20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o buy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929040" y="3000240"/>
            <a:ext cx="3429000" cy="795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t ope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3929040" y="28584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929040" y="20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 c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285840" y="571500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t clos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929040" y="114300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o reserv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14200" y="3000240"/>
            <a:ext cx="3429000" cy="795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 have lef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14200" y="4786200"/>
            <a:ext cx="3429000" cy="795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o 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3857760" y="485784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 have los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285840" y="392904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2"/>
          <p:cNvSpPr/>
          <p:nvPr/>
        </p:nvSpPr>
        <p:spPr>
          <a:xfrm>
            <a:off x="3071880" y="6019920"/>
            <a:ext cx="342900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un bille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5143680" y="5019840"/>
            <a:ext cx="342900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un coc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5715000" y="401940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mi pasapor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5715000" y="301932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Calibri"/>
              </a:rPr>
              <a:t>ayuntamient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5143680" y="201924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Calibri"/>
              </a:rPr>
              <a:t>una ida y vuel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3000240" y="109044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Calibri"/>
              </a:rPr>
              <a:t>una habit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428760" y="5019840"/>
            <a:ext cx="342900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un pi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0" y="401940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mi male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301932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la ti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428760" y="201924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Calibri"/>
              </a:rPr>
              <a:t>en el primer pis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214200" y="0"/>
            <a:ext cx="6215040" cy="855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I want to buy a ticke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214200" y="142920"/>
            <a:ext cx="6215040" cy="703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iero comprar un bill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214200" y="214200"/>
            <a:ext cx="6215040" cy="627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I want to go to the town hal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214200" y="214200"/>
            <a:ext cx="6215040" cy="703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iero ir al ayun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214200" y="428760"/>
            <a:ext cx="621504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reserve a doubl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214200" y="0"/>
            <a:ext cx="6215040" cy="1068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ero reservar una habitación do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8"/>
          <p:cNvSpPr/>
          <p:nvPr/>
        </p:nvSpPr>
        <p:spPr>
          <a:xfrm>
            <a:off x="214200" y="357120"/>
            <a:ext cx="621504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ime does the shop o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9"/>
          <p:cNvSpPr/>
          <p:nvPr/>
        </p:nvSpPr>
        <p:spPr>
          <a:xfrm>
            <a:off x="214200" y="357120"/>
            <a:ext cx="6215040" cy="627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¿A qué hora abre la tienda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0"/>
          <p:cNvSpPr/>
          <p:nvPr/>
        </p:nvSpPr>
        <p:spPr>
          <a:xfrm>
            <a:off x="214200" y="0"/>
            <a:ext cx="6215040" cy="627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I have lost my suitca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1"/>
          <p:cNvSpPr/>
          <p:nvPr/>
        </p:nvSpPr>
        <p:spPr>
          <a:xfrm>
            <a:off x="214200" y="0"/>
            <a:ext cx="6215040" cy="703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 perdido mi male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2"/>
          <p:cNvSpPr/>
          <p:nvPr/>
        </p:nvSpPr>
        <p:spPr>
          <a:xfrm>
            <a:off x="214200" y="0"/>
            <a:ext cx="6215040" cy="855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I want to rent a fl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3"/>
          <p:cNvSpPr/>
          <p:nvPr/>
        </p:nvSpPr>
        <p:spPr>
          <a:xfrm>
            <a:off x="214200" y="214200"/>
            <a:ext cx="6215040" cy="703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iero alquilar un pi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4"/>
          <p:cNvSpPr/>
          <p:nvPr/>
        </p:nvSpPr>
        <p:spPr>
          <a:xfrm>
            <a:off x="214200" y="0"/>
            <a:ext cx="6215040" cy="106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have left my passport in my bed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5"/>
          <p:cNvSpPr/>
          <p:nvPr/>
        </p:nvSpPr>
        <p:spPr>
          <a:xfrm>
            <a:off x="214200" y="0"/>
            <a:ext cx="6215040" cy="1161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He dejado mi pasaporte en mi habitac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Neil Jones\My Documents\My Pictures\antonio.jpg"/>
          <p:cNvPicPr/>
          <p:nvPr/>
        </p:nvPicPr>
        <p:blipFill>
          <a:blip r:embed="rId1"/>
          <a:stretch/>
        </p:blipFill>
        <p:spPr>
          <a:xfrm>
            <a:off x="-380880" y="0"/>
            <a:ext cx="10515600" cy="6973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602240" y="4724280"/>
            <a:ext cx="3833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e chico se llama Anto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e en Pampl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ene dieciséis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rds.yahoo.com/_ylt=A0WTb_xCvEJI8lgAgCCjzbkF/SIG=12j4d2sfg/EXP=1212419522/**http%3A//www.cnn.com/WORLD/9707/07/spain.bulls/spain.pamplona.jpg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817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428760" y="714240"/>
            <a:ext cx="821520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that you want to book a 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for 2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ith breakfast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you stayed there last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that you only have a small suit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De dónde er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y de..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 vivo e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Estás aquí para cuánto tiemp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a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428760" y="714240"/>
            <a:ext cx="821520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that you want to change 100 pounds (libr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you have left your passport in your hot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that your hotel is far away (lej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where you stayed last night (anoch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that you have a credit c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De dónde er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y de..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 vivo e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uándo vuelves a Inglater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ñana / la semana que vie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1071720" y="214200"/>
            <a:ext cx="3071520" cy="4117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ould you say these in Span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t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4786200" y="214200"/>
            <a:ext cx="3071880" cy="411732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b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s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r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j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rer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mb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785880" y="4357800"/>
            <a:ext cx="7500960" cy="2288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how would you say them using the preter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baj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r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 aloj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3714840" y="4857840"/>
            <a:ext cx="4500360" cy="1557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 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 vi (NOTE- no  acc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 f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camb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28600" y="533520"/>
            <a:ext cx="8686800" cy="347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¿Antonio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asó sus vacaciones en España o en el extranjero</a:t>
            </a:r>
            <a:r>
              <a:rPr b="1" lang="en-GB" sz="4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¿Qué opinas?</a:t>
            </a:r>
            <a:r>
              <a:rPr b="0" lang="en-GB" sz="5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80880" y="228600"/>
            <a:ext cx="83822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ort through the cards + build up the case for each argumen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¿</a:t>
            </a:r>
            <a:r>
              <a:rPr b="1" lang="en-US" sz="60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España</a:t>
            </a:r>
            <a:r>
              <a:rPr b="1" lang="en-GB" sz="60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¿</a:t>
            </a:r>
            <a:r>
              <a:rPr b="1" lang="en-US" sz="60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El extranjero</a:t>
            </a:r>
            <a:r>
              <a:rPr b="1" lang="en-GB" sz="60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Documents and Settings\Neil Jones\My Documents\My Pictures\antonio 2.jpg"/>
          <p:cNvPicPr/>
          <p:nvPr/>
        </p:nvPicPr>
        <p:blipFill>
          <a:blip r:embed="rId1"/>
          <a:stretch/>
        </p:blipFill>
        <p:spPr>
          <a:xfrm>
            <a:off x="6553080" y="2286000"/>
            <a:ext cx="1749600" cy="2362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04920" y="5181480"/>
            <a:ext cx="85341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Your answer must be based on the information given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 FIND YOUR EVIDENCE!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Write down your conclusions in full in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857240" y="0"/>
            <a:ext cx="7332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Neil Jones\My Documents\My Pictures\spanish flag.pn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http://es.wrs.yahoo.com/_ylt=A0WTf2mUQ4hIeEMARdye.Qt./SIG=12fn1e4id/EXP=1216976148/**http%3A//ec.europa.eu/fisheries/images/carte_coralreef_es.jpg"/>
          <p:cNvPicPr/>
          <p:nvPr/>
        </p:nvPicPr>
        <p:blipFill>
          <a:blip r:embed="rId2"/>
          <a:stretch/>
        </p:blipFill>
        <p:spPr>
          <a:xfrm>
            <a:off x="900000" y="-76320"/>
            <a:ext cx="7162920" cy="698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1071720" y="263520"/>
            <a:ext cx="3051000" cy="4748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Times New Roman"/>
              </a:rPr>
              <a:t>Las Islas Canari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82760" y="3751200"/>
            <a:ext cx="2842920" cy="1617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s Islas Canarias forman parte del Estado Español.</a:t>
            </a:r>
            <a:r>
              <a:rPr b="0" lang="en-GB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pain_fi_lg_clr"/>
          <p:cNvPicPr/>
          <p:nvPr/>
        </p:nvPicPr>
        <p:blipFill>
          <a:blip r:embed="rId3"/>
          <a:stretch/>
        </p:blipFill>
        <p:spPr>
          <a:xfrm>
            <a:off x="3022560" y="2989440"/>
            <a:ext cx="1582920" cy="1199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642960" y="785880"/>
            <a:ext cx="7858080" cy="512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n a piece of paper, write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topic your presentation is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mber the following 1-6 depending on what you want to be as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 = absolutely   6=please n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i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ur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use and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sonal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cal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o hir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929040" y="207180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o go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3929040" y="485784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8:35:47Z</dcterms:created>
  <dc:creator>Owner1</dc:creator>
  <dc:description/>
  <dc:language>en-US</dc:language>
  <cp:lastModifiedBy>Chris</cp:lastModifiedBy>
  <dcterms:modified xsi:type="dcterms:W3CDTF">2009-02-26T17:58:47Z</dcterms:modified>
  <cp:revision>5</cp:revision>
  <dc:subject/>
  <dc:title>Slide 1</dc:title>
</cp:coreProperties>
</file>